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DFA-B48D-406C-8180-7EE39DCA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61400"/>
            <a:ext cx="77724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AB0D-B3C1-48E0-8F10-A384C9DA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61F-FD6E-4DE1-B015-E79F1E4C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304776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304776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6140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6140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6140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407-6D2B-478C-B650-F747BC9C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752-F689-45E0-AA99-509685CB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E78-0342-4D0F-97A9-395D2555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E53-71E1-455B-AEA4-104CDB59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3F7-AEBD-4566-85C9-DED8EDB2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2C03-353A-4B7F-B5F0-0A2DF7D5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441-41BB-4A7C-ACB3-CEC75445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1BC-D550-4BDA-A33D-0D339E65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61400"/>
            <a:ext cx="77724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A80-8E74-4638-85E5-8A62B897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5A7A-D1F1-49C6-AD4B-BD9AB62B522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43812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di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e di Napoli, Assessorato alle Pari Opportunità e ai Tempi della Cit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&amp;S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rcidonna Nap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partimento di Scienze della Comunicazione dell’Università di Sal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relazione uomo donna per prevenire la violenza di gene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ala Pignatiello Palazzo San Gia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12 nov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re 1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te donne subiscono violenza da parte di familiari, conoscenti o estran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enza fisica, sessuale, psicologica, familiare ed econo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i ISTAT 2006 (diffusi nel 20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l fenomeno della violenza alle donn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Italia 6 milioni 743 mi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donne da 16 a 70 anni vittime di violenza fisica o sessua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l corso della vi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14,3% delle donne con un rapporto di coppia attuale o precedente ha subito almeno una violenza fisica o sessuale dal partner, se si considerano solo le donne con un ex partner la percentuale arriva al 17,3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violenza fisica è più di frequente opera dei partner (12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lla quasi totalità dei casi le violenze non sono denunc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violenze domestiche sono in maggioranza gr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o più colpite da violenza domestica le donne il cui partner è violento anche all’estern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milioni 134 mila donne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no subito o subiscono violen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icolo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2 milioni 77 mila donne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subito comportamenti persecutori (stalking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 milione 400 mila d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subito violenza sessuale prima dei 16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690 mila d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subito violenze ripetute da partner e avevano figli al momento della viol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amo partiti dai dati nazionali per capire la “scarsa significatività” dei dati a Nap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lo 460 donne si sono rivolte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entro Antiviolenza “A.U.R.O.R.A.” del Comune di Nap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questo nel Piano strategi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Città: femminile, plurale.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iamo puntando anche sulla preven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3428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garantire i livelli di sicurezza a misura di do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ioni e servizi di contrasto della viol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le donne e sui min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re ai sentimen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o del progett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Sentimenti differen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zzare al tema della prevenzione chi quotidianamente affronta il problema delle violenze alle donne per far sviluppare tra loro nuove forme di collabor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zione di una rete territoriale per la prevenzione della violenza alle do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14680" y="3247920"/>
            <a:ext cx="2114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orso formativo nelle scu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gazzi e ragazze della Scuola Media “G. Gigante”, dell’I.S.I.S. “F. De Sanctis” e del I.T.C. “F. Galiani” insieme ai docenti, ai formatori ed agli esperti analizzeranno la dimensione affettiva e le relazioni tra sessi allo scopo di esplorare stereotipi e modelli culturali che agiscono nel definire ruoli e relazi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confronteranno sulle coppie di sentimenti differenti: amore e odio, paura e desiderio, gioia e dol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6:23:05Z</dcterms:created>
  <dc:creator>Antonio Prigiobbo</dc:creator>
  <dc:description/>
  <dc:language>en-US</dc:language>
  <cp:lastModifiedBy>Giuliana</cp:lastModifiedBy>
  <dcterms:modified xsi:type="dcterms:W3CDTF">2008-10-29T11:10:47Z</dcterms:modified>
  <cp:revision>14</cp:revision>
  <dc:subject/>
  <dc:title>Presentazione di PowerPoint</dc:title>
</cp:coreProperties>
</file>